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0138A4A-466F-4BF0-92ED-A9C381C12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26CECE7-8D73-4786-AE08-F97C7D061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09600" y="69516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360" y="4341600"/>
            <a:ext cx="5486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335-C145-454B-A0EE-2B1370B1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307-5624-4A66-9F23-33DF2048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02B-6042-468B-B355-4936CD86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B40-D69D-40A2-919D-79447DE4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30EF-747E-4A9A-ACCF-88332175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6784-EEDB-4F47-ABFD-BA0D104C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CC41-AD6C-4923-AA8E-3922E2ED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CB90-533D-43D2-9BE1-315665F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C653-C5A4-4BF9-A819-BE6998E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0918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439B-98AB-4C64-B38B-38222AAE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F949-C8A6-45EB-9E6A-86EF531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2BC-527B-4DAE-B632-A06CBAB3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466F-041C-476C-BD81-580C47D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4FA2-7B40-454A-B943-F470425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B3FE-3D19-45F2-A3D5-0793821B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0CB-8D8E-4659-96C2-C2ACADA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5E3E-8F28-4FC9-9C02-C4F89124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DD4-566C-41E7-BAD6-3344892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3A6-1E11-4A4C-A924-A5B11FA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E62-7D36-412E-ACC8-2DBCC2D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918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1E3-AC58-4CC5-992D-0780ACBE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660-0279-45AC-B96B-0246805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D7E-DB7D-46BE-91C7-E23F0E4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D8C-030C-4BFF-A87B-1BB3CDB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918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900-266F-40D7-A245-9A293FE0D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973160"/>
            <a:ext cx="7772400" cy="0"/>
          </a:xfrm>
          <a:prstGeom prst="line">
            <a:avLst/>
          </a:prstGeom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A127-8A2A-4039-A219-F59508AC1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A, the Global Earth Observation System of Systems &amp; Data Shar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24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ore and better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tter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63280" y="110484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 the future of environmental protec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needs to beco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ch larger u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emotely sensed earth observation da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its decision support 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observation, modeling and information needs are being defined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Earth Observation community are being s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llenge is to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D9A-18AC-4019-8702-A4C35C2A88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6840" y="1060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PA’s “Nich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8560" y="2000160"/>
            <a:ext cx="792504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User and Provider of data/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Linkages from Observations to all Nine Societal Benefit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’s Connections with State/Local/Tribal Environment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nvironmental Health Decision-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ssessment, Regulatory Action, Guidance, Uncertainty, Accountability, et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the Environment and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B6A-E37D-4F27-86DD-C18FD8EF9C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06400"/>
            <a:ext cx="276120" cy="4160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9584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THE SPECTRUM OF US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1148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observations &amp; earth system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to-Information archiving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too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cientists and mod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process modelers &amp;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 &amp; Environment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, advocacy groups and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98100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95008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well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59436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ware that observational Requirements are even nee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FDA-EED5-4917-A238-461A09E339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43400" y="1706400"/>
            <a:ext cx="276120" cy="416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9584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THE SPECTRUM OF US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1148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observations &amp; earth system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to-Information archiving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too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cientists and mod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process modelers &amp;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 &amp; Environment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, advocacy groups and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98100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595008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well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9436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ware that observational Requirements are even nee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625200">
            <a:off x="1606320" y="4619520"/>
            <a:ext cx="593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NOVICE US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805-EBDE-4F29-A962-B9EE39312B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8280" y="4079880"/>
            <a:ext cx="6248520" cy="220968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4600" y="879480"/>
            <a:ext cx="8305560" cy="3048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59400" y="1641600"/>
            <a:ext cx="388620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9160" y="1660680"/>
            <a:ext cx="3657600" cy="2266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7760" y="1812960"/>
            <a:ext cx="152424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54280" y="2508120"/>
            <a:ext cx="152388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1680" y="1811160"/>
            <a:ext cx="152388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820880"/>
            <a:ext cx="175284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SS Special Arrang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9880" y="280368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8160" y="2801880"/>
            <a:ext cx="1371600" cy="45900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768" y="192"/>
                </a:lnTo>
                <a:lnTo>
                  <a:pt x="768" y="0"/>
                </a:lnTo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3600" y="2822400"/>
            <a:ext cx="3504960" cy="819360"/>
          </a:xfrm>
          <a:custGeom>
            <a:avLst/>
            <a:gdLst/>
            <a:ahLst/>
            <a:rect l="l" t="t" r="r" b="b"/>
            <a:pathLst>
              <a:path w="2208" h="432">
                <a:moveTo>
                  <a:pt x="0" y="336"/>
                </a:moveTo>
                <a:lnTo>
                  <a:pt x="0" y="432"/>
                </a:lnTo>
                <a:lnTo>
                  <a:pt x="2208" y="432"/>
                </a:lnTo>
                <a:lnTo>
                  <a:pt x="2208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4680" y="2792520"/>
            <a:ext cx="1066680" cy="5443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0"/>
                </a:moveTo>
                <a:lnTo>
                  <a:pt x="672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9400" y="31464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1000" y="293040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2960" y="27781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40280" y="33750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o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34960" y="2803680"/>
            <a:ext cx="0" cy="1123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960" y="3108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GEOSS Registr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74840" y="3546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84920" y="3560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4928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2076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5920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520" y="9748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7640" y="9748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b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56080" y="974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5004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7720" y="9986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99120" y="974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37856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41520" y="974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72096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9400" y="514656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2280" y="5146560"/>
            <a:ext cx="17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00" y="514656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5146560"/>
            <a:ext cx="150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7960" y="4384800"/>
            <a:ext cx="17528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57880" y="43848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25680" y="5375160"/>
            <a:ext cx="2133720" cy="457200"/>
          </a:xfrm>
          <a:prstGeom prst="leftRightArrow">
            <a:avLst>
              <a:gd name="adj1" fmla="val 50000"/>
              <a:gd name="adj2" fmla="val 929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ser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34960" y="44607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30800" y="4460760"/>
            <a:ext cx="1218960" cy="685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87800" y="3470400"/>
            <a:ext cx="533160" cy="914400"/>
          </a:xfrm>
          <a:prstGeom prst="upDownArrow">
            <a:avLst>
              <a:gd name="adj1" fmla="val 50000"/>
              <a:gd name="adj2" fmla="val 341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89960" y="50734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918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“Novice” U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6360" y="191124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-to-policy analy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on specific issues that fall within one or more S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SOA- or GEOSS-experie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for any and all observational data relevant to thei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si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nd i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ew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89E-5B38-4CEF-803E-0043E40504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0918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“Novice” U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6360" y="191124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he Novice U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EOSS Common Infra-structure is not user frie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is not usef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need to provide sample data sets for easy viewing geograph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223-7440-4603-BB88-71CE1D6AFF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2T01:13:35Z</dcterms:created>
  <dc:creator/>
  <dc:description/>
  <dc:language>en-US</dc:language>
  <cp:lastModifiedBy>Gary Foley</cp:lastModifiedBy>
  <dcterms:modified xsi:type="dcterms:W3CDTF">2009-01-07T12:46:53Z</dcterms:modified>
  <cp:revision>342</cp:revision>
  <dc:subject/>
  <dc:title>OSA</dc:title>
</cp:coreProperties>
</file>